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9A17-946B-40FD-8C80-D60D9968C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2530-42AB-4380-A318-D62A4FB71D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CAF6-422C-4651-95FD-87A868F594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CC4D-17ED-4174-9F09-32585EF65C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F540-8288-479E-8BB7-40290CE6CD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057F-2F50-429D-813D-53A91652F9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61AB-F45A-4C63-9A90-27D5C73C02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F52B-5CF8-4A7A-A44C-76D58AD513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1E4B-52F1-477F-9E82-453365D977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7B86-941D-4B2F-B8BF-6656F7F1F4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B52A-B29C-411C-B022-7FA8B684D5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AA8D-E13E-474B-945D-9FEC7984DC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B039-94E4-4933-B055-E811BAE973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3BC3-3CB4-47A0-9A11-BE9D931648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2A06-F3C3-4E56-A9AD-0C31082C7C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9A1D-B87F-47D8-874A-A34F5936ED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955A-F536-4DF7-9A05-D781369604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5EEE-2BDA-4082-930A-4AC8766E45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9A0-2E94-499D-8346-B5F19A5C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303-6C7B-4378-B202-EE316119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539-663E-4109-A877-CD190786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D60-33AC-492C-A8C6-F4159F96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9D1-31F1-4D75-9BAE-78763380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A84-E692-4E3E-A8E5-D7AEEE35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48E-B691-4774-9D91-DB5D4240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CBC-234D-4F4F-A00E-FAA076EF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893-A4EA-420E-8AB9-AD79ACB7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E1E-B5BE-4C94-80DB-9974E82E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284-E2F3-41E9-95F1-F4C2B55A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677-3C7E-45F5-963C-BB0F2FE1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D5B0-DA63-4D6C-8E5E-23A152A090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The Chemistry of Lif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80920" y="6019920"/>
            <a:ext cx="22100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s. Sanford &amp; Mr. O’Connor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Jefferson High School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November 11, 2008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lysaccharides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tinue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828440" y="990720"/>
            <a:ext cx="6705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alibri"/>
              </a:rPr>
              <a:t>Star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orage product of pla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00’s of glucose un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ranched and unbranch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96ff"/>
                </a:solidFill>
                <a:latin typeface="Calibri"/>
              </a:rPr>
              <a:t>Glycog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arbohydrate storage in anim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milar  to plant starch by more branch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tinuous source of ener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y simple sugar not used or stored as glycogen becomes f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alibri"/>
              </a:rPr>
              <a:t>Cellulo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ighly insoluble form of polysacchari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used for structural  support in pla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Lipid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52120" y="914040"/>
            <a:ext cx="6782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ganic form of stored ener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d as energy, after carbohydr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i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ax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ree fatty acid molecules and one glycer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hydration synthesis – gives off 3 water molecu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t should be 20 – 35% of calories you consu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ree Types:  (each should be 1/3 of fat intak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aturat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nounsaturat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lyunsaturat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0" dur="2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aturated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37920" y="838080"/>
            <a:ext cx="6705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lid at room tempera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aises blood cholestero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urce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im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hee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e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3" descr="Fatty Acids.gif"/>
          <p:cNvPicPr/>
          <p:nvPr/>
        </p:nvPicPr>
        <p:blipFill>
          <a:blip r:embed="rId1"/>
          <a:srcRect l="0" t="0" r="0" b="52598"/>
          <a:stretch/>
        </p:blipFill>
        <p:spPr>
          <a:xfrm>
            <a:off x="2743200" y="4952880"/>
            <a:ext cx="49291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362320" y="44197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ingle bonds that join two carbo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lard.jpg"/>
          <p:cNvPicPr/>
          <p:nvPr/>
        </p:nvPicPr>
        <p:blipFill>
          <a:blip r:embed="rId2"/>
          <a:stretch/>
        </p:blipFill>
        <p:spPr>
          <a:xfrm>
            <a:off x="685800" y="68580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butter.bmp"/>
          <p:cNvPicPr/>
          <p:nvPr/>
        </p:nvPicPr>
        <p:blipFill>
          <a:blip r:embed="rId3"/>
          <a:srcRect l="18903" t="8941" r="14201" b="11763"/>
          <a:stretch/>
        </p:blipFill>
        <p:spPr>
          <a:xfrm>
            <a:off x="609480" y="2057400"/>
            <a:ext cx="1295640" cy="1022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heese.jpg"/>
          <p:cNvPicPr/>
          <p:nvPr/>
        </p:nvPicPr>
        <p:blipFill>
          <a:blip r:embed="rId4"/>
          <a:stretch/>
        </p:blipFill>
        <p:spPr>
          <a:xfrm>
            <a:off x="685800" y="3352680"/>
            <a:ext cx="1143000" cy="1067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meat.jpg"/>
          <p:cNvPicPr/>
          <p:nvPr/>
        </p:nvPicPr>
        <p:blipFill>
          <a:blip r:embed="rId5"/>
          <a:stretch/>
        </p:blipFill>
        <p:spPr>
          <a:xfrm>
            <a:off x="533520" y="4724280"/>
            <a:ext cx="156672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Unsaturated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09680" y="7621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96ff"/>
                </a:solidFill>
                <a:latin typeface="Calibri"/>
              </a:rPr>
              <a:t>Monounsatura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ittle effect on blood cholesterol but provides a concentrated source of calo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lives, olive oil, peanuts, peanut butter, peanut oil, avocados, pecans, and almon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4bc9"/>
                </a:solidFill>
                <a:latin typeface="Calibri"/>
              </a:rPr>
              <a:t>Polyunsatura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w in cholesterol and liquid at room tempera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egetable oils such as cotton seed, sunflowers, sesame and soybe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648320" y="2743200"/>
            <a:ext cx="2154240" cy="75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886200" y="5181480"/>
            <a:ext cx="3352680" cy="789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2438280" y="6172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Double bonds join two or more carbo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olive oils.jpg"/>
          <p:cNvPicPr/>
          <p:nvPr/>
        </p:nvPicPr>
        <p:blipFill>
          <a:blip r:embed="rId3"/>
          <a:stretch/>
        </p:blipFill>
        <p:spPr>
          <a:xfrm>
            <a:off x="304920" y="228600"/>
            <a:ext cx="1427040" cy="2019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peanuts.jpg"/>
          <p:cNvPicPr/>
          <p:nvPr/>
        </p:nvPicPr>
        <p:blipFill>
          <a:blip r:embed="rId4"/>
          <a:stretch/>
        </p:blipFill>
        <p:spPr>
          <a:xfrm>
            <a:off x="1066680" y="2438280"/>
            <a:ext cx="1320840" cy="99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sunflower seeds.bmp"/>
          <p:cNvPicPr/>
          <p:nvPr/>
        </p:nvPicPr>
        <p:blipFill>
          <a:blip r:embed="rId5"/>
          <a:stretch/>
        </p:blipFill>
        <p:spPr>
          <a:xfrm>
            <a:off x="304920" y="3886200"/>
            <a:ext cx="1466640" cy="1100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soybeans.jpg"/>
          <p:cNvPicPr/>
          <p:nvPr/>
        </p:nvPicPr>
        <p:blipFill>
          <a:blip r:embed="rId6"/>
          <a:stretch/>
        </p:blipFill>
        <p:spPr>
          <a:xfrm>
            <a:off x="1143000" y="5334120"/>
            <a:ext cx="13590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roteins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&amp; Amino Aci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040" y="9907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cromolecul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charge of growth and repair of cell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5% of the mass of the average pers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de up of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amino acids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50 – 2,000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only essential amino aci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sic chemical building bloc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mino means there is an NH2 grou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carboxyl group is made up of 1-(C), 2-(O), 1-(H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cid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0 amino acid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20 are Essential (for life to exist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ild all proteins needed for lif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d in every cell of your bod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4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8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9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8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8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5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2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7" dur="2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ounded Rectangle 5"/>
          <p:cNvSpPr/>
          <p:nvPr/>
        </p:nvSpPr>
        <p:spPr>
          <a:xfrm>
            <a:off x="3809880" y="3352680"/>
            <a:ext cx="533412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ore Amino Acid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142640"/>
            <a:ext cx="3581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are they differen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side group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ree group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96ff"/>
                </a:solidFill>
                <a:latin typeface="Calibri"/>
              </a:rPr>
              <a:t>Ion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4bc9"/>
                </a:solidFill>
                <a:latin typeface="Calibri"/>
              </a:rPr>
              <a:t>Pol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Non-pol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oin together to make a cha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3" descr="amino acid structure.jpg"/>
          <p:cNvPicPr/>
          <p:nvPr/>
        </p:nvPicPr>
        <p:blipFill>
          <a:blip r:embed="rId1"/>
          <a:srcRect l="7004" t="25585" r="4279" b="2909"/>
          <a:stretch/>
        </p:blipFill>
        <p:spPr>
          <a:xfrm>
            <a:off x="4572000" y="1371600"/>
            <a:ext cx="2540160" cy="137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amino acids combining.gif"/>
          <p:cNvPicPr/>
          <p:nvPr/>
        </p:nvPicPr>
        <p:blipFill>
          <a:blip r:embed="rId2"/>
          <a:stretch/>
        </p:blipFill>
        <p:spPr>
          <a:xfrm>
            <a:off x="3733920" y="3276720"/>
            <a:ext cx="5410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9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7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roteins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inued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7621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are proteins mad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the riboso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hydration synthesis makes prote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mino acids form </a:t>
            </a:r>
            <a:r>
              <a:rPr b="1" lang="en-US" sz="2400" spc="-1" strike="noStrike">
                <a:solidFill>
                  <a:srgbClr val="ff6699"/>
                </a:solidFill>
                <a:latin typeface="Century Gothic"/>
                <a:ea typeface="Arial"/>
              </a:rPr>
              <a:t>dipeptides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ny dipeptides/polypeptides form prote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order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protein ty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ghly folded and all twisted around like a kno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2438280" y="2819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entury Gothic"/>
              </a:rPr>
              <a:t>di</a:t>
            </a:r>
            <a:r>
              <a:rPr b="1" lang="en-US" sz="24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+  </a:t>
            </a:r>
            <a:r>
              <a:rPr b="1" lang="en-US" sz="2400" spc="-1" strike="noStrike">
                <a:solidFill>
                  <a:srgbClr val="ff6699"/>
                </a:solidFill>
                <a:latin typeface="Century Gothic"/>
              </a:rPr>
              <a:t>di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+  </a:t>
            </a:r>
            <a:r>
              <a:rPr b="1" lang="en-US" sz="2400" spc="-1" strike="noStrike">
                <a:solidFill>
                  <a:srgbClr val="ff6699"/>
                </a:solidFill>
                <a:latin typeface="Century Gothic"/>
              </a:rPr>
              <a:t>di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=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438280" y="3962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poly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+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poly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=  </a:t>
            </a:r>
            <a:r>
              <a:rPr b="1" lang="en-US" sz="2400" spc="-1" strike="noStrike">
                <a:solidFill>
                  <a:srgbClr val="00b050"/>
                </a:solidFill>
                <a:latin typeface="Century Gothic"/>
              </a:rPr>
              <a:t>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Protein Structure.jpg"/>
          <p:cNvPicPr/>
          <p:nvPr/>
        </p:nvPicPr>
        <p:blipFill>
          <a:blip r:embed="rId1"/>
          <a:srcRect l="79773" t="30750" r="0" b="7691"/>
          <a:stretch/>
        </p:blipFill>
        <p:spPr>
          <a:xfrm>
            <a:off x="5334120" y="5486400"/>
            <a:ext cx="1120680" cy="1220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rotein Structure.jpg"/>
          <p:cNvPicPr/>
          <p:nvPr/>
        </p:nvPicPr>
        <p:blipFill>
          <a:blip r:embed="rId2"/>
          <a:srcRect l="0" t="2369" r="3118" b="75717"/>
          <a:stretch/>
        </p:blipFill>
        <p:spPr>
          <a:xfrm>
            <a:off x="1905120" y="5448240"/>
            <a:ext cx="2320920" cy="1409760"/>
          </a:xfrm>
          <a:prstGeom prst="rect">
            <a:avLst/>
          </a:prstGeom>
          <a:ln w="0">
            <a:noFill/>
          </a:ln>
        </p:spPr>
      </p:pic>
      <p:cxnSp>
        <p:nvCxnSpPr>
          <p:cNvPr id="158" name="Straight Arrow Connector 8"/>
          <p:cNvCxnSpPr/>
          <p:nvPr/>
        </p:nvCxnSpPr>
        <p:spPr>
          <a:xfrm>
            <a:off x="4343400" y="6095520"/>
            <a:ext cx="83880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77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0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2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4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0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79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5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5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2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2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2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Where can Proteins be found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uscle, cartilage, ligaments, skin, and hai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moglobin, hormones (insulin) antibodies, and enzy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urc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Bee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Poult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Fis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alibri"/>
              </a:rPr>
              <a:t>Eg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Dairy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Nu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See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Legumes (beans, peas, lentil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9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Organic Chemist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3520" y="1218960"/>
            <a:ext cx="67820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tudy of all compounds that contain bonds between carbon at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makes Carbon so importan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bond with many ele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ydrog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xyg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hosphoru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ulfu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itrog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bond with other carbon at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rm chains, almost unlimited in lengt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arbon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520" y="10663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rbon-carbon bonds (covalent) can be single, double, or trip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bility to form millions of different large and complex structur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838080" y="297180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5"/>
          <p:cNvSpPr/>
          <p:nvPr/>
        </p:nvSpPr>
        <p:spPr>
          <a:xfrm flipH="1">
            <a:off x="1600200" y="3276720"/>
            <a:ext cx="144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6"/>
          <p:cNvSpPr/>
          <p:nvPr/>
        </p:nvSpPr>
        <p:spPr>
          <a:xfrm flipH="1">
            <a:off x="1600200" y="3886200"/>
            <a:ext cx="144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traight Connector 10"/>
          <p:cNvSpPr/>
          <p:nvPr/>
        </p:nvSpPr>
        <p:spPr>
          <a:xfrm>
            <a:off x="1752480" y="3657600"/>
            <a:ext cx="228600" cy="144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1219320" y="3657600"/>
            <a:ext cx="228600" cy="144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3124080" y="3581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13"/>
          <p:cNvSpPr/>
          <p:nvPr/>
        </p:nvSpPr>
        <p:spPr>
          <a:xfrm>
            <a:off x="4191120" y="3809880"/>
            <a:ext cx="228600" cy="0"/>
          </a:xfrm>
          <a:prstGeom prst="line">
            <a:avLst/>
          </a:prstGeom>
          <a:ln w="7632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14"/>
          <p:cNvSpPr/>
          <p:nvPr/>
        </p:nvSpPr>
        <p:spPr>
          <a:xfrm>
            <a:off x="4724280" y="3809880"/>
            <a:ext cx="228600" cy="18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15"/>
          <p:cNvSpPr/>
          <p:nvPr/>
        </p:nvSpPr>
        <p:spPr>
          <a:xfrm>
            <a:off x="3657600" y="3809880"/>
            <a:ext cx="228600" cy="18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1752480" y="49528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                       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9"/>
          <p:cNvSpPr/>
          <p:nvPr/>
        </p:nvSpPr>
        <p:spPr>
          <a:xfrm>
            <a:off x="3048120" y="5715000"/>
            <a:ext cx="228600" cy="144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22"/>
          <p:cNvSpPr/>
          <p:nvPr/>
        </p:nvSpPr>
        <p:spPr>
          <a:xfrm>
            <a:off x="2514600" y="5715000"/>
            <a:ext cx="228600" cy="1440"/>
          </a:xfrm>
          <a:prstGeom prst="line">
            <a:avLst/>
          </a:prstGeom>
          <a:ln w="7632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23"/>
          <p:cNvSpPr/>
          <p:nvPr/>
        </p:nvSpPr>
        <p:spPr>
          <a:xfrm>
            <a:off x="3581280" y="5715000"/>
            <a:ext cx="228600" cy="1440"/>
          </a:xfrm>
          <a:prstGeom prst="line">
            <a:avLst/>
          </a:prstGeom>
          <a:ln w="7632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Straight Connector 27"/>
          <p:cNvSpPr/>
          <p:nvPr/>
        </p:nvSpPr>
        <p:spPr>
          <a:xfrm flipV="1">
            <a:off x="4038480" y="5333760"/>
            <a:ext cx="7632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traight Connector 29"/>
          <p:cNvSpPr/>
          <p:nvPr/>
        </p:nvSpPr>
        <p:spPr>
          <a:xfrm>
            <a:off x="2133000" y="5257800"/>
            <a:ext cx="7596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Straight Connector 31"/>
          <p:cNvSpPr/>
          <p:nvPr/>
        </p:nvSpPr>
        <p:spPr>
          <a:xfrm flipV="1">
            <a:off x="2133000" y="5866920"/>
            <a:ext cx="7596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Straight Connector 33"/>
          <p:cNvSpPr/>
          <p:nvPr/>
        </p:nvSpPr>
        <p:spPr>
          <a:xfrm flipV="1">
            <a:off x="3427560" y="5335200"/>
            <a:ext cx="288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Straight Connector 36"/>
          <p:cNvSpPr/>
          <p:nvPr/>
        </p:nvSpPr>
        <p:spPr>
          <a:xfrm flipV="1">
            <a:off x="2819520" y="5333760"/>
            <a:ext cx="144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traight Connector 38"/>
          <p:cNvSpPr/>
          <p:nvPr/>
        </p:nvSpPr>
        <p:spPr>
          <a:xfrm>
            <a:off x="4114080" y="5867280"/>
            <a:ext cx="15228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39"/>
          <p:cNvSpPr/>
          <p:nvPr/>
        </p:nvSpPr>
        <p:spPr>
          <a:xfrm>
            <a:off x="5867280" y="3352680"/>
            <a:ext cx="228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Straight Connector 41"/>
          <p:cNvSpPr/>
          <p:nvPr/>
        </p:nvSpPr>
        <p:spPr>
          <a:xfrm flipV="1">
            <a:off x="7008120" y="3735000"/>
            <a:ext cx="324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Straight Connector 43"/>
          <p:cNvSpPr/>
          <p:nvPr/>
        </p:nvSpPr>
        <p:spPr>
          <a:xfrm flipH="1">
            <a:off x="7008480" y="5869080"/>
            <a:ext cx="324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Straight Connector 45"/>
          <p:cNvSpPr/>
          <p:nvPr/>
        </p:nvSpPr>
        <p:spPr>
          <a:xfrm flipV="1">
            <a:off x="7695360" y="4266720"/>
            <a:ext cx="228600" cy="30492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traight Connector 47"/>
          <p:cNvSpPr/>
          <p:nvPr/>
        </p:nvSpPr>
        <p:spPr>
          <a:xfrm flipH="1" flipV="1">
            <a:off x="6171840" y="4191120"/>
            <a:ext cx="228600" cy="30456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Straight Connector 50"/>
          <p:cNvSpPr/>
          <p:nvPr/>
        </p:nvSpPr>
        <p:spPr>
          <a:xfrm flipH="1">
            <a:off x="6248160" y="5334120"/>
            <a:ext cx="15228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Straight Connector 52"/>
          <p:cNvSpPr/>
          <p:nvPr/>
        </p:nvSpPr>
        <p:spPr>
          <a:xfrm>
            <a:off x="7619400" y="5410080"/>
            <a:ext cx="15228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Straight Connector 54"/>
          <p:cNvSpPr/>
          <p:nvPr/>
        </p:nvSpPr>
        <p:spPr>
          <a:xfrm>
            <a:off x="7162200" y="4191120"/>
            <a:ext cx="228600" cy="304560"/>
          </a:xfrm>
          <a:prstGeom prst="line">
            <a:avLst/>
          </a:prstGeom>
          <a:ln w="7632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Straight Connector 57"/>
          <p:cNvSpPr/>
          <p:nvPr/>
        </p:nvSpPr>
        <p:spPr>
          <a:xfrm flipH="1">
            <a:off x="7162560" y="5334120"/>
            <a:ext cx="228600" cy="228600"/>
          </a:xfrm>
          <a:prstGeom prst="line">
            <a:avLst/>
          </a:prstGeom>
          <a:ln w="7632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Straight Connector 58"/>
          <p:cNvSpPr/>
          <p:nvPr/>
        </p:nvSpPr>
        <p:spPr>
          <a:xfrm flipH="1">
            <a:off x="6474960" y="4802040"/>
            <a:ext cx="3240" cy="228600"/>
          </a:xfrm>
          <a:prstGeom prst="line">
            <a:avLst/>
          </a:prstGeom>
          <a:ln w="7632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Straight Connector 62"/>
          <p:cNvSpPr/>
          <p:nvPr/>
        </p:nvSpPr>
        <p:spPr>
          <a:xfrm flipH="1">
            <a:off x="7542360" y="4802040"/>
            <a:ext cx="288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traight Connector 63"/>
          <p:cNvSpPr/>
          <p:nvPr/>
        </p:nvSpPr>
        <p:spPr>
          <a:xfrm flipH="1">
            <a:off x="6629040" y="4191120"/>
            <a:ext cx="22860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Straight Connector 64"/>
          <p:cNvSpPr/>
          <p:nvPr/>
        </p:nvSpPr>
        <p:spPr>
          <a:xfrm>
            <a:off x="6628680" y="5334120"/>
            <a:ext cx="15228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Macromolecule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47920" y="9907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iant molecules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de from thousands or hundreds of thousands of smaller molecu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med by polymer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oining together of small compou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nomer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polym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nomers may be identical or differ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lowchart: Punched Tape 3"/>
          <p:cNvSpPr/>
          <p:nvPr/>
        </p:nvSpPr>
        <p:spPr>
          <a:xfrm rot="16200000">
            <a:off x="1602720" y="5715360"/>
            <a:ext cx="609480" cy="461880"/>
          </a:xfrm>
          <a:prstGeom prst="flowChartPunchedTap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Flowchart: Punched Tape 4"/>
          <p:cNvSpPr/>
          <p:nvPr/>
        </p:nvSpPr>
        <p:spPr>
          <a:xfrm rot="16200000">
            <a:off x="1983600" y="5715360"/>
            <a:ext cx="609480" cy="461880"/>
          </a:xfrm>
          <a:prstGeom prst="flowChartPunchedTap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lowchart: Punched Tape 5"/>
          <p:cNvSpPr/>
          <p:nvPr/>
        </p:nvSpPr>
        <p:spPr>
          <a:xfrm rot="16200000">
            <a:off x="2745720" y="5715360"/>
            <a:ext cx="609480" cy="461880"/>
          </a:xfrm>
          <a:prstGeom prst="flowChartPunchedTap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lowchart: Punched Tape 6"/>
          <p:cNvSpPr/>
          <p:nvPr/>
        </p:nvSpPr>
        <p:spPr>
          <a:xfrm rot="16200000">
            <a:off x="2364480" y="5715000"/>
            <a:ext cx="609480" cy="462240"/>
          </a:xfrm>
          <a:prstGeom prst="flowChartPunchedTap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lowchart: Punched Tape 7"/>
          <p:cNvSpPr/>
          <p:nvPr/>
        </p:nvSpPr>
        <p:spPr>
          <a:xfrm rot="16200000">
            <a:off x="3126600" y="5715360"/>
            <a:ext cx="609480" cy="461880"/>
          </a:xfrm>
          <a:prstGeom prst="flowChartPunchedTap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Flowchart: Punched Tape 8"/>
          <p:cNvSpPr/>
          <p:nvPr/>
        </p:nvSpPr>
        <p:spPr>
          <a:xfrm rot="16200000">
            <a:off x="3507480" y="5715000"/>
            <a:ext cx="609480" cy="462240"/>
          </a:xfrm>
          <a:prstGeom prst="flowChartPunchedTap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lowchart: Punched Tape 9"/>
          <p:cNvSpPr/>
          <p:nvPr/>
        </p:nvSpPr>
        <p:spPr>
          <a:xfrm rot="12811800">
            <a:off x="7163640" y="5082480"/>
            <a:ext cx="609480" cy="460440"/>
          </a:xfrm>
          <a:prstGeom prst="flowChartPunchedTap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lowchart: Punched Tape 10"/>
          <p:cNvSpPr/>
          <p:nvPr/>
        </p:nvSpPr>
        <p:spPr>
          <a:xfrm rot="11663400">
            <a:off x="4620960" y="4944240"/>
            <a:ext cx="609480" cy="460440"/>
          </a:xfrm>
          <a:prstGeom prst="flowChartPunchedTap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lowchart: Punched Tape 11"/>
          <p:cNvSpPr/>
          <p:nvPr/>
        </p:nvSpPr>
        <p:spPr>
          <a:xfrm rot="20386800">
            <a:off x="5775120" y="5045040"/>
            <a:ext cx="614160" cy="457200"/>
          </a:xfrm>
          <a:prstGeom prst="flowChartPunchedTap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lowchart: Punched Tape 12"/>
          <p:cNvSpPr/>
          <p:nvPr/>
        </p:nvSpPr>
        <p:spPr>
          <a:xfrm rot="19662600">
            <a:off x="5180040" y="5919480"/>
            <a:ext cx="614160" cy="457200"/>
          </a:xfrm>
          <a:prstGeom prst="flowChartPunchedTap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Bent Arrow 13"/>
          <p:cNvSpPr/>
          <p:nvPr/>
        </p:nvSpPr>
        <p:spPr>
          <a:xfrm rot="10800000">
            <a:off x="4114800" y="5565600"/>
            <a:ext cx="768240" cy="5335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6095880" y="579420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mon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2286000" y="50324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poly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5"/>
          <p:cNvSpPr/>
          <p:nvPr/>
        </p:nvSpPr>
        <p:spPr>
          <a:xfrm>
            <a:off x="914400" y="1371600"/>
            <a:ext cx="1600200" cy="243828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2438280"/>
              <a:gd name="textAreaBottom" fmla="*/ 2360160 h 2438280"/>
            </a:gdLst>
            <a:ahLst/>
            <a:rect l="textAreaLeft" t="textAreaTop" r="textAreaRight" b="textAreaBottom"/>
            <a:pathLst>
              <a:path w="21600" h="32910">
                <a:moveTo>
                  <a:pt x="3600" y="0"/>
                </a:moveTo>
                <a:arcTo wR="3600" hR="3600" stAng="16200000" swAng="-5400000"/>
                <a:lnTo>
                  <a:pt x="0" y="29310"/>
                </a:lnTo>
                <a:arcTo wR="3600" hR="3600" stAng="10800000" swAng="-5400000"/>
                <a:lnTo>
                  <a:pt x="18000" y="32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Organic Compound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90560" y="1447560"/>
            <a:ext cx="6553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96ff"/>
                </a:solidFill>
                <a:latin typeface="Calibri"/>
              </a:rPr>
              <a:t>Carbohydra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de of carbon (C), hydrogen (H), &amp; oxygen (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 : 2 : 1 ratio  (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4bc9"/>
                </a:solidFill>
                <a:latin typeface="Calibri"/>
              </a:rPr>
              <a:t>Lipi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de of C, H, &amp; 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↑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 : 1 ratio  (H : 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Protei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de of C, H, O, &amp; 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4" descr="carb structure.gif"/>
          <p:cNvPicPr/>
          <p:nvPr/>
        </p:nvPicPr>
        <p:blipFill>
          <a:blip r:embed="rId1"/>
          <a:srcRect l="0" t="0" r="0" b="14897"/>
          <a:stretch/>
        </p:blipFill>
        <p:spPr>
          <a:xfrm>
            <a:off x="990720" y="1371600"/>
            <a:ext cx="1447560" cy="236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49696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amino acid structure.jpg"/>
          <p:cNvPicPr/>
          <p:nvPr/>
        </p:nvPicPr>
        <p:blipFill>
          <a:blip r:embed="rId3"/>
          <a:srcRect l="6811" t="27324" r="4478" b="4647"/>
          <a:stretch/>
        </p:blipFill>
        <p:spPr>
          <a:xfrm>
            <a:off x="541440" y="5562720"/>
            <a:ext cx="204948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arbohydrate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3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suga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sou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 building other molecu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Typ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nosacchari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acchari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ysacchari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685800" y="4724280"/>
            <a:ext cx="1600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onosacchar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37920" y="838080"/>
            <a:ext cx="6705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mple sugars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 – 7 carbons in cha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alibri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st abundant sugar on plan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 of photosynthes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inciple sugar in human blo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prox. 5 g (enough for 15 min. of energ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alibri"/>
              </a:rPr>
              <a:t>Galact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lk sug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alibri"/>
              </a:rPr>
              <a:t>Fruct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ruit sug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wice as sweet as table sug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lucose, galactose, &amp; fructose are all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omers (different 3-D form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3" descr="glucose.jpg"/>
          <p:cNvPicPr/>
          <p:nvPr/>
        </p:nvPicPr>
        <p:blipFill>
          <a:blip r:embed="rId1"/>
          <a:stretch/>
        </p:blipFill>
        <p:spPr>
          <a:xfrm>
            <a:off x="685800" y="2057400"/>
            <a:ext cx="1752480" cy="1535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galactose.jpg"/>
          <p:cNvPicPr/>
          <p:nvPr/>
        </p:nvPicPr>
        <p:blipFill>
          <a:blip r:embed="rId2"/>
          <a:stretch/>
        </p:blipFill>
        <p:spPr>
          <a:xfrm>
            <a:off x="5410080" y="3657600"/>
            <a:ext cx="1847880" cy="153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fructose.png"/>
          <p:cNvPicPr/>
          <p:nvPr/>
        </p:nvPicPr>
        <p:blipFill>
          <a:blip r:embed="rId3"/>
          <a:stretch/>
        </p:blipFill>
        <p:spPr>
          <a:xfrm>
            <a:off x="762120" y="4800600"/>
            <a:ext cx="14475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2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5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Disaccharide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95280" y="9140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wo simple sugars bonded toge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duced through dehydration synthe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moval of water molec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96ff"/>
                </a:solidFill>
                <a:latin typeface="Calibri"/>
              </a:rPr>
              <a:t>Maltose</a:t>
            </a:r>
            <a:r>
              <a:rPr b="0" lang="en-US" sz="2400" spc="-1" strike="noStrike">
                <a:solidFill>
                  <a:srgbClr val="0996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alibri"/>
              </a:rPr>
              <a:t>gluco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+  </a:t>
            </a:r>
            <a:r>
              <a:rPr b="1" lang="en-US" sz="2400" spc="-1" strike="noStrike">
                <a:solidFill>
                  <a:srgbClr val="ff6699"/>
                </a:solidFill>
                <a:latin typeface="Calibri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4bc9"/>
                </a:solidFill>
                <a:latin typeface="Calibri"/>
              </a:rPr>
              <a:t>Sucros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alibri"/>
              </a:rPr>
              <a:t>gluco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+  </a:t>
            </a:r>
            <a:r>
              <a:rPr b="1" lang="en-US" sz="2400" spc="-1" strike="noStrike">
                <a:solidFill>
                  <a:srgbClr val="ff9933"/>
                </a:solidFill>
                <a:latin typeface="Calibri"/>
              </a:rPr>
              <a:t>fruct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actos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alibri"/>
              </a:rPr>
              <a:t>gluco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+  </a:t>
            </a:r>
            <a:r>
              <a:rPr b="1" lang="en-US" sz="2400" spc="-1" strike="noStrike">
                <a:solidFill>
                  <a:srgbClr val="3399ff"/>
                </a:solidFill>
                <a:latin typeface="Calibri"/>
              </a:rPr>
              <a:t>galact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oken down by hydroly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ition of water molec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3" descr="maltose.gif"/>
          <p:cNvPicPr/>
          <p:nvPr/>
        </p:nvPicPr>
        <p:blipFill>
          <a:blip r:embed="rId1"/>
          <a:srcRect l="4350" t="6835" r="4350" b="9367"/>
          <a:stretch/>
        </p:blipFill>
        <p:spPr>
          <a:xfrm>
            <a:off x="5181480" y="2286000"/>
            <a:ext cx="2895840" cy="1309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rcRect l="4028" t="6910" r="1257" b="3455"/>
          <a:stretch/>
        </p:blipFill>
        <p:spPr>
          <a:xfrm>
            <a:off x="5181480" y="3886200"/>
            <a:ext cx="2895840" cy="80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lactose.gif"/>
          <p:cNvPicPr/>
          <p:nvPr/>
        </p:nvPicPr>
        <p:blipFill>
          <a:blip r:embed="rId3"/>
          <a:srcRect l="5313" t="4308" r="0" b="5385"/>
          <a:stretch/>
        </p:blipFill>
        <p:spPr>
          <a:xfrm>
            <a:off x="5181480" y="4876920"/>
            <a:ext cx="28958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9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9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 rot="1678800">
            <a:off x="-1379520" y="3035160"/>
            <a:ext cx="11349000" cy="228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lysaccharide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038480" y="838080"/>
            <a:ext cx="5105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ex carbohydr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y” means man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mple sugars joined into long cha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ay great roles in Biolo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3" descr="polysaccharide.gif"/>
          <p:cNvPicPr/>
          <p:nvPr/>
        </p:nvPicPr>
        <p:blipFill>
          <a:blip r:embed="rId1"/>
          <a:stretch/>
        </p:blipFill>
        <p:spPr>
          <a:xfrm rot="1077600">
            <a:off x="-169920" y="3045960"/>
            <a:ext cx="958680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8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0:26:18Z</dcterms:created>
  <dc:creator>Amy Lynn Sanford</dc:creator>
  <dc:description/>
  <dc:language>en-US</dc:language>
  <cp:lastModifiedBy>joconnor</cp:lastModifiedBy>
  <dcterms:modified xsi:type="dcterms:W3CDTF">2008-11-12T13:39:05Z</dcterms:modified>
  <cp:revision>50</cp:revision>
  <dc:subject/>
  <dc:title>The Chemistry of Life</dc:title>
</cp:coreProperties>
</file>